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D53-D2C7-4D71-9FA6-657546A4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8F9-818B-459B-B386-08125EE5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238-5EC8-44A9-AC07-F1343935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52F-ED37-4194-860A-DC1122BC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479-ED01-4C0B-A6CC-FF2D72A4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B3E-4791-458A-B76C-7971D4CF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261-2CEE-4DCF-AF59-7DD14A2A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4C9-554E-4E2A-AA10-FC7EB024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AAB-8F35-41A1-AB3C-76C20550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99C-3ADE-462C-AE93-15854F56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949-091F-482D-95EC-98BB7806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A80-5FC6-418A-94D2-632394AB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548A-6C15-41D5-A902-1E221210D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Date: Thursday, May 26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ly, you are responsible to create a way to communicate the behaviours of waves to grade 5 stu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o think about what would be appealing to a grade 5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reative, be inform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story book  or science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it fun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include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book is complete without a cov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marks for an attractive cov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s will be given for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 spelling of the 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 definition/explanation of the 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 drawing/illustration of the 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ur                                5 Marks/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05:20:41Z</dcterms:created>
  <dc:creator>School District 17</dc:creator>
  <dc:description/>
  <dc:language>en-US</dc:language>
  <cp:lastModifiedBy>Administrator</cp:lastModifiedBy>
  <dcterms:modified xsi:type="dcterms:W3CDTF">2011-05-17T18:24:24Z</dcterms:modified>
  <cp:revision>10</cp:revision>
  <dc:subject/>
  <dc:title>Today’s NewAssignment</dc:title>
</cp:coreProperties>
</file>